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0B4-27AD-4511-9921-CB8FD9DBC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806-D1B9-4447-A711-1F8803101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6D41-261D-4CF4-8356-7D7A34391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05C4-F52A-40A9-89E6-E80612A06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A3CC-9E18-4EF0-BFD4-ACA2A53D2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91BC-1BF2-45DE-B653-06D7B3805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E3A-F948-4D96-AB0B-B77B0867C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61BE-BA22-4703-9EFA-805D5DEB7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AD49-E34B-49AD-98CE-2F2ED6DC9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D55-DEC3-4DB9-B8EB-D6718D150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6291-021E-4D8B-A048-EE4E17D14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AC8-6D36-4790-A459-A946B75EF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7BA-2FF7-4938-9B82-CA87E2716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9D6-AB29-417E-A335-4391B46C7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01B0-EC6A-4299-A27A-493F487B7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7A5-A769-4F02-9024-92A519D99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7DA-AC13-4089-B752-D8A6C099D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452A-B201-4FCB-AAAF-25A926988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D52-E391-4140-A830-519B71464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3DB5-2621-4FD4-A297-1E6780754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99F-74A9-4EA3-9FCA-B8F70FBF0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2FF-936C-451D-AB8E-3BC9D5BFF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2198-26D3-49BB-BB6F-89E27955D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A470-B122-4922-9B5C-E6B9EC455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250-D8AD-4410-8A9D-E7190A449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FAE5-AD36-491B-9D9C-B293ACCF0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FB9B-C748-4245-A1E2-D6B0B18AC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5AC0-B67E-42E3-B37E-DB04CE789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E864-0D54-45EA-A36F-DCC032E29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185-F56E-40D4-ABF4-EC7CC9C24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0156-DC1C-4308-B416-8C4063472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FE4-0340-4387-8ED2-9917A2DF6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6EE1-83BD-404C-A93B-151DA7771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3877-1063-4849-9C51-FCAFB9BA4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808C-F174-415A-9A81-95644796D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F333-62DC-4213-94FA-C55206E4E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6B64-4417-4937-9111-5EA2006C2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8EED-D65A-4AEC-BCE3-41B594482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0FF9-F5BD-4A13-B57E-E63F60D2A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8C7F-E74A-42AC-B6FA-A289BBA96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0E9-BCDB-4408-A660-25272EE72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46A-008E-4297-B39D-A70628F13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003B-74A4-40D0-8DEB-932AF45E1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B79-A2C2-4062-9064-3A13E6FCB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FE1-F654-4AC4-87AF-559F2FB4D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4E1-8DB4-4875-B121-266F2AAB5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2F59-D294-4494-A989-A9D9D3EF2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6EEA-63AB-4E5C-8AA9-507307C0F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356A-7673-46D5-A275-3C644E960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7E6-8BB4-4EC3-B59F-BCFB85C40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8E1B-588F-4AB4-9C4F-6C563A5DC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51B1-F8A9-4617-B2BB-8FA01301E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4BCC-5E7C-4257-8644-EB013F4D1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C03-D087-4783-8B8F-E7BB1E46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674-323E-4D71-920C-12C3C826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A3C-1A36-46BE-B6B4-01350667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E15-17D4-4720-A8E3-7161ABBA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8974-A260-45E8-AA91-C7FAED1B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DF63-E4DC-457A-85D2-C7AD08EE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3F31-D94C-4667-8FC0-0AC55740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7E4E-E4A5-477B-B6FD-FCE33012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3E6B-9E14-4611-80FF-5DC45534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7E51-C37F-42B6-B5DB-07BDFB20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8C22-83B4-43E4-8435-8323C7D7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217-361E-4C17-A93F-888DAF6D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16F3-C039-4267-81DD-247AABA0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2B22-2641-4199-8589-DD8A50C8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3588-0FA2-4245-A134-3038B59A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CCDA-305B-4FA4-99E6-1D3AB9A4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06CE-6F8B-45D9-AB32-1EDEDFA1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4D8-B9D1-4BD4-8AEB-A6633125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691-B2BE-4B90-B71C-70B1CD2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981-5AE6-4FD5-8285-05DBEDD9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FFD-A77C-4427-B4C1-14C72E95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CC2-0312-47AC-A0D0-418A039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F68-71CE-4B47-98BD-8B7364FD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CE4-2A38-4BAA-B24F-DC74863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4875-BB86-4541-8407-DE9AC9B3B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born in 199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born in 19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d not go to colle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was married three tim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only married one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ed in Los Angles Californ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ue/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w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Fahrenheit 451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o kill a MockingBird written by R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or 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he Pendulum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Something Wicked This Way Comes written by Ra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kids did Ray h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,2,3,or 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once won a 2003 country music awar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n impact crater on the moon named after one of his boo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meteor named after hi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rover landing site named after him on the planet M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had 4 k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Ray’s wife’s na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san, Marguerite, Molly, Margaret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’s wife’s name is Marguerit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friends with what creator of a famous movie seri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(Star Trek), George Lucas(Star Wars), or J.K Rowling( Harry Pott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ed to Ray in 1999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, He was diagnosed with cancer, he had to get operated 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mormat17</cp:lastModifiedBy>
  <dcterms:modified xsi:type="dcterms:W3CDTF">2013-11-01T17:01:58Z</dcterms:modified>
  <cp:revision>25</cp:revision>
  <dc:subject>Jeopardy Template</dc:subject>
  <dc:title>POWERPOINT JEOPARDY</dc:title>
</cp:coreProperties>
</file>